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dt" idx="37"/>
          </p:nvPr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sldImg"/>
          </p:nvPr>
        </p:nvSpPr>
        <p:spPr>
          <a:xfrm>
            <a:off x="8949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ftr" idx="38"/>
          </p:nvPr>
        </p:nvSpPr>
        <p:spPr>
          <a:xfrm>
            <a:off x="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 type="sldNum" idx="39"/>
          </p:nvPr>
        </p:nvSpPr>
        <p:spPr>
          <a:xfrm>
            <a:off x="377964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9EB6-A237-4939-9503-BBE421C5C2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ave a common understanding of R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an explain and apply RBM concepts to both programme and operations results frame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78000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D8CC-7AA6-4DB5-B427-41E7551C1B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graphic show a “regular BoS approach. Actual time varies depending on the scope of the B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78000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16A8-406C-4E0D-AB11-74F9A50010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3A9E-96E7-4E63-AAED-4EB95D22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2F82-450D-4B85-A7B6-617D1431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8CE6-80CF-479C-9499-EEEF6D86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B902-D519-49DB-8254-13D53C02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FE03-E9FE-4D48-A49C-89BA3C46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485D-55FE-42BA-AD08-776C9154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9387-D7CC-486F-A97A-0A8FF5B5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D8B4-376C-4833-8E03-CC3826D6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52F2-0922-41DB-AA04-97B6CD74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0257-7856-4FCE-B9E1-37848B24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9206-0441-4137-9A29-754450E7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2FD0-C5A3-41A5-BB49-757B5DB6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B7C1-39BF-40A0-956A-BE5A450F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AA895-877E-4A43-8B05-348A91A6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E06CC-8C47-43D9-8ECF-06FD2158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6CA2-3A91-4EF3-8996-509717E6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20A64-1BA3-4DB0-8579-4AE02F84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5AD82-CA87-4694-856E-294DDAF9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A00E4-3A78-4B2F-B11C-496C1B6D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01985-F5CE-48C1-B2E9-905BD704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E7938-F2D4-4C24-B802-D63EFA19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576A0-F82A-42F7-BE73-64ABAE63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2D72-6CA5-4CB6-A644-700F1F3F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C61B-77CA-4D99-BAE5-35DB7AF2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A63BE-A47A-4598-8032-5232BB09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3F9A7-659D-415E-B796-1AC43B1E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119AD-74C8-4D6C-8CAD-1BAFC5F9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BBA89-D2F6-418F-9ED4-7F0D92A7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1F485-045D-4E0B-A8AB-E30B0306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D8C39-B7AA-4480-B99D-B4DEE834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C3F86-DEFC-4AE0-B2DF-CE124277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E0322-E981-41D9-8B69-59592A82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98BA6-ED1D-47DD-A740-91BAD4D1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639BC-F4A0-4233-8E9B-8FCC7EC0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70DA1-1D8F-45C0-976F-71C3B9DE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0C105-C538-4813-9639-78E085DE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1BF32-AD91-4541-9CFA-7B48C82A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9F133-1586-4F4E-A742-8BFBDAE9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A475B-88E3-4FC1-B562-A9B5F8D9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184B8-0373-4AC8-AE2B-69A78926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94808-5880-43ED-8A11-0F95E2EE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3FD88-00CC-4FE5-B30E-43F7BC01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4C2EF-0ACE-4E95-A413-8DF725B3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ACB16-C136-43C8-BAFD-B9ADC723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7725D-1BDE-480E-A58D-2F6234C7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0038D-304E-41AC-B52D-1A8D668E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D8E84-74BD-483E-A655-F392041D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794F9-5E11-4D79-BB23-E6F5D163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8AF52-B5DC-4EB1-B5AD-8B6A6FCA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03880-5E98-4637-81B9-D72F4145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BDEA2-9346-4D74-ABD2-02DA0F0E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F23D6-40B9-4023-B8B7-0E48BB9B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3C4E0-DB05-47C1-8522-F1A08898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D5D9B-5CCF-406C-9157-FD86556A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99AFF-764C-4E09-A355-D498CD9D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C6ED8-5465-42E8-9062-4A5963AD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58A3A-55BC-47DA-9040-8AD2F0D4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928E2-FCDD-4BEB-9FD1-4829C453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38493-3926-4FF6-AD58-9DE0DD61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6ED9F-FEA2-4DB0-8FFC-04A7A605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E62AB-D543-46D0-AB65-F1FBABB8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0667E-644C-4CFC-B8F6-C19C2DB0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6094C-BD31-468F-982C-DAA2227A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DA165-5483-4BE7-8F45-9D8F6748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29A3D-F22A-4024-84B6-05B663B2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78DA8-95E2-46D7-A2B4-AC38193E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4A69E-8532-48E6-9D0B-D343178B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1D62A-14A9-4202-8725-8A20BFF6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071A3-92FE-49BF-97EC-B3654359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42DC9-4616-432A-8564-195B301E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9715E-05C3-44B0-8A2F-136A8249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82FB0-8259-4C1B-B22A-367DD42A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722E9-7361-4161-982F-90BD90C6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E056E-FEBC-4749-A0A8-1A620CA0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7416C-7D39-4F9F-969C-211610BD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EA426-4FA3-4E55-B7ED-6AA1F0E8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A8CCC-846B-46CB-BF34-A94A9650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091F2-2CA2-4640-BE25-86D3FDAF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BABCC-BA10-4E94-BDA0-2914F104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F7F25-78B4-49F0-8FDA-BFEE2650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95530-7E3A-4543-8D10-5272E8DB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75906-C2FC-4787-893E-1525B9C2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FFBD3-AD81-4CB6-A9AF-48B1393E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85481-9948-4885-B75A-247A2CF4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0960C-AAF6-48B4-B597-A553A4FB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61ED9-135E-4E24-B069-DBACD297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FEFB5-1E33-4D39-974C-9812AAF5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A61C2-097C-49F3-BB3A-B4C8CD49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080E9-2CBF-4759-BC77-E6C1060F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8EF02-010A-4337-B373-1914DE5F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779BF-F83F-4A29-B235-D4463B92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4F7E6-891C-4BAC-B30B-EED3A862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E318D-8677-43AB-ADE1-D61B9DE6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3B14F-F31E-4AEB-B676-4B1839CD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E49FD-C05B-4117-8A4A-37D1F989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8AFC2-5137-4028-8CEC-2BF07677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9C112-8597-4604-B3D9-C149AE96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293C5-0317-47FA-A593-E274BF6A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F7782-CA06-4A23-8789-D3568E14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03AF8-B43A-49FF-B41D-68935476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8B097-0203-4DEE-B681-CB893E86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58558-A911-4253-B18E-409D128E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1BE93-975B-4A38-9AC1-6A12CAB8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75C31-1E1D-4430-AF43-40243A3B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2A866-4F4E-4925-B0CB-2D69EF7D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703C8-1511-4293-856A-E75CFA8D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397EC-5725-4CE6-A18E-3777780C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3C54B-7ABC-47AA-96F3-9C4AA591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FEAB8-81BB-42F4-B865-B1E19387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00AF5-A81C-47B0-A43A-2097D2C4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CDD60-8DBE-418B-8C0E-8BECB3FF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2EBFC-9270-4C31-8CC1-B69F6A1C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789C1-2C36-466E-A0B8-C2AF0EE3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3D6A8-5F0D-4420-830D-54D71E85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5D910-268E-42C4-BDFE-EFEF5FB8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C6A6D-99CB-4790-844A-7FA31DD0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DB736-9013-444F-8910-39328AE8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F2039-5597-4997-AC5E-EAAE9769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A07D9-09CC-41AE-965B-854E65E3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2A01C-8DDC-4EDB-9F01-83F6CE22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3E20E-C02C-4DF7-8650-1C457864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09BFF-93BF-44D2-BB7F-B9E9ED80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BA570-9F45-445B-A447-5C81ABC8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23B6E-CD97-469C-8660-C187CF5E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663E0-D81F-410F-94D4-84ADCD72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7C0AC-CAFE-4A96-8B07-0A7E5864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E8890-9644-4872-B15C-24851BCD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0EB90-A958-4D17-88BB-BA015A3A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86881-9D94-4C7A-A4A9-9882173E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7D06C-750A-4CC8-8C91-DDCE57CA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93DE5-A8B9-4DD2-93B1-EF1152AE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9488C-0A20-46B7-A4E8-EBBEA3E1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3C5-5F19-4633-B28C-C1A5DCD5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E2B-1224-4830-B1FD-786F472C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91B-3139-400B-9BB9-965FC607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952B-DFB9-473A-9237-F177D923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9A0-F1F7-4D8B-AB40-D2952A68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77C-04B0-41C9-AA98-5B6F4842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E00-43E3-4FF2-B435-5F1EE15F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069-1295-4A84-82D7-92217A79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6C6-B111-4C53-A0C3-0A0A5BC7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5E0-B647-4448-9C21-F2B220E5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9A5-B4FA-4797-AB86-42ED0106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277-EBD8-4C21-B9E6-4D2400E1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5202-A08F-4AD8-8FE9-64C6FED37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5613-08A2-40D1-8BFE-97D38B7234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6A74-67BC-428A-8D11-3E8470D288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B683-4902-4167-BE4C-7B94CBFB41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EA98-095A-4806-81CC-1B80CA6AB2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E4F4-CE48-4CEB-87A6-AFEF10B586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A626-9568-49E6-A120-6BCF764C4E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3DE0-29FE-4F5C-94A5-0CB523EAD0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CBD6-6F43-400D-8DBE-A52AA2907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8469-3D11-4503-9A94-05A7CD88A9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A4D6-5F86-419E-85C5-D01E8F70D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279E-EE1C-405B-A5B8-C9BC0D856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DOCO new logo"/>
          <p:cNvPicPr/>
          <p:nvPr/>
        </p:nvPicPr>
        <p:blipFill>
          <a:blip r:embed="rId3"/>
          <a:stretch/>
        </p:blipFill>
        <p:spPr>
          <a:xfrm>
            <a:off x="179280" y="620640"/>
            <a:ext cx="2808360" cy="50796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67840" y="3031920"/>
            <a:ext cx="879948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NDG Business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B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1027"/>
          <p:cNvSpPr/>
          <p:nvPr/>
        </p:nvSpPr>
        <p:spPr>
          <a:xfrm>
            <a:off x="1785960" y="5229360"/>
            <a:ext cx="5943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5395"/>
                </a:solidFill>
                <a:latin typeface="Arial"/>
              </a:rPr>
              <a:t>Advanced Business Operations Trai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5395"/>
                </a:solidFill>
                <a:latin typeface="Arial"/>
              </a:rPr>
              <a:t>Kabul, Afghanistan November 2014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57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Lessons Learned BOS- Pilo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13"/>
          <p:cNvSpPr/>
          <p:nvPr/>
        </p:nvSpPr>
        <p:spPr>
          <a:xfrm rot="5400000">
            <a:off x="3929400" y="3855240"/>
            <a:ext cx="1086120" cy="3259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15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5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ssons Learned BOS- Pi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pturing the dat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hard work. Needs to be real commitment and leadership to get this done. worth considering getting external hel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urement people seem to prefer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ain their individual relationshi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suppli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staff turnover there is a regular need to re-explain and re-advocate for BOS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pacity development /Regular training should be provid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reinforce the strategic management of programme and operations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rterly UN induction train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Common Business Ops organised as a common staff development action (under the HR component of the BOS) is very much recommen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M&amp;E TWG should be enhanc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llow for better planning and monitoring (of programme as well as operational activiti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9:07:36Z</dcterms:created>
  <dc:creator>goodale</dc:creator>
  <dc:description/>
  <dc:language>en-US</dc:language>
  <cp:lastModifiedBy>Lars Tushuizen</cp:lastModifiedBy>
  <cp:lastPrinted>2013-04-23T17:01:54Z</cp:lastPrinted>
  <dcterms:modified xsi:type="dcterms:W3CDTF">2014-11-20T16:47:31Z</dcterms:modified>
  <cp:revision>993</cp:revision>
  <dc:subject/>
  <dc:title>PowerPoint Presentation</dc:title>
</cp:coreProperties>
</file>